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958-9EB9-4B28-83DB-A22A04AB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BB3-FAED-4940-8CD6-9BB0F9E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6AD-AA06-4B8E-A9FE-CAB8B015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DEA-1599-407B-AD68-41EB2B7B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0F6B-413F-42C7-877D-EEA49E9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DFF-17CE-48D3-9F6A-E355595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2899-812C-412B-8E5E-D184581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5674-6147-4018-902A-A7CD8E7B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E99E-08AD-4DF4-A964-6856CC63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98B-9D46-43AC-803C-B4FAA7F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B96C-3358-4847-9D3D-293D324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060-2C42-49AE-AD2F-8837C71A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D8AB-3004-4118-A48C-87383FB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DD5-9F4D-4A13-808F-F9D41C5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FF0A-DBCE-4F43-BAF1-78A3EB42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F55D-DE55-4C47-B862-E03615D1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DF9A-9438-4D44-AF4B-5B52F91F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4DC-E7FA-45A9-AFCE-221E4A82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D3D-1DC7-438E-BC69-90766776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478-59DE-40E8-9CBC-5C1034B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34F-6C00-447F-ABD2-CAA81B79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6EB-33B1-44DB-81BB-A846722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548-405A-45C4-ABB9-CD833CE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527-D983-401C-8B7D-42F7F5D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C6D-6E95-4DB3-A3DA-3A9E29244F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9C8-EADE-4882-8FF4-BD1528395A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6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2.xml"/><Relationship Id="rId9" Type="http://schemas.openxmlformats.org/officeDocument/2006/relationships/slide" Target="slide31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2.xml"/><Relationship Id="rId9" Type="http://schemas.openxmlformats.org/officeDocument/2006/relationships/slide" Target="slide31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4.xml"/><Relationship Id="rId17" Type="http://schemas.openxmlformats.org/officeDocument/2006/relationships/slide" Target="slide35.xml"/><Relationship Id="rId1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2.xml"/><Relationship Id="rId9" Type="http://schemas.openxmlformats.org/officeDocument/2006/relationships/slide" Target="slide31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64720" y="227664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方正卡通简体"/>
              </a:rPr>
              <a:t>我爱我“家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07440" y="981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方正粗倩简体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549440"/>
            <a:ext cx="4753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运动会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洒下了多少同学奋力拼搏的汗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你可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他们课后的辛勤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为的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只为我们七（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）的光明耀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其实，还有许多同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日夜不停地努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也在作着贡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1576080"/>
            <a:ext cx="460836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啊，我们的七（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）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一天天正在进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一天天变得优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七（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）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我们的七（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）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我们在这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锻炼出坚硬的翅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飞向属于自己的那一片蓝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8366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才情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6480" y="955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我们七（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1675440"/>
            <a:ext cx="35290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自从我加入了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七（</a:t>
            </a: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10</a:t>
            </a: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）班这个大家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我很骄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也很自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因为你缤纷美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啊，我爱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语文、数学、英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每个老师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有如慈母般将我辛勤哺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啊，我爱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哪怕我犯错误时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曾害怕你言语的锋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6320" y="1712880"/>
            <a:ext cx="1941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但我却因此不敢讳疾忌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自从我成为你的一员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是你扶稳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颤颤悠悠的脚步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教我学会做人，学会学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学会生活，学会健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啊，我爱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有你同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和你相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初中生活定会绚丽无比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85572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卡通简体"/>
                <a:ea typeface="方正卡通简体"/>
              </a:rPr>
              <a:t>我爱我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66080" y="270756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少儿简体"/>
              </a:rPr>
              <a:t>第三乐章——我爱兴化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692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名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440" y="3548880"/>
            <a:ext cx="259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千岛菜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乡兴化，春光明媚。该市注重发展生态旅游观光农业，实行湿地保护、生态开发，昔日荡滩“野鸭芦荻，天水一色”的独特景观，将重现在世人面前。素有“千岛之乡”的垛田镇湿地风景秀丽，数千亩菜花金黄一片，每天迎来上海、南京等地数百名游客慕名前来观光，成为苏北水乡一道极为靓丽的风景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16360" y="3284640"/>
            <a:ext cx="457488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30400" y="765000"/>
            <a:ext cx="4578480" cy="25196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349236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5" action="ppaction://hlinksldjump"/>
          </p:cNvPr>
          <p:cNvSpPr/>
          <p:nvPr/>
        </p:nvSpPr>
        <p:spPr>
          <a:xfrm>
            <a:off x="392436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435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7" action="ppaction://hlinksldjump"/>
          </p:cNvPr>
          <p:cNvSpPr/>
          <p:nvPr/>
        </p:nvSpPr>
        <p:spPr>
          <a:xfrm>
            <a:off x="4789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8" action="ppaction://hlinksldjump"/>
          </p:cNvPr>
          <p:cNvSpPr/>
          <p:nvPr/>
        </p:nvSpPr>
        <p:spPr>
          <a:xfrm>
            <a:off x="5221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9" action="ppaction://hlinksldjump"/>
          </p:cNvPr>
          <p:cNvSpPr/>
          <p:nvPr/>
        </p:nvSpPr>
        <p:spPr>
          <a:xfrm>
            <a:off x="565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4176720" cy="4608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291528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上森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中水上森林公园位于兴化市李中镇，是全省最大的人工生态林，是都市人回归自然休闲的好去处。这片人工生态林面积１５００亩，采用林垛沟鱼的立体模式，水杉、池杉参天，树梢益鸟欢聚，沟内鱼儿跳跃，林内一片生机。这里是野生动物的天堂，猫头鹰、野鸭、白鹭、黑杜鹃、草鹦鹉、山喜等在此筑巢生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349236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392436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435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4789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5221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8" action="ppaction://hlinksldjump"/>
          </p:cNvPr>
          <p:cNvSpPr/>
          <p:nvPr/>
        </p:nvSpPr>
        <p:spPr>
          <a:xfrm>
            <a:off x="565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301920" y="907920"/>
            <a:ext cx="4149720" cy="511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26866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纵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纵湖形成于南宋之前，距今已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年历史，这里不仅有丰富的湿地生态资源，享有“水乡泽国”、“鱼米之乡”盛誉，并且有着隽永的人文历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春天，湖水清澈，湖田苇青，春风吹拂，碧浪翻滚；夏季，湖堤杨柳如烟，湖中接天莲叶，千顷一碧，映日荷花，别样红艳；秋时藕壮菱饱，稻香蟹肥；严冬腊冬日，湖中苇白如雪，游鱼潜底，北国候鸟，时翔湖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349236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392436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435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4789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5221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8" action="ppaction://hlinksldjump"/>
          </p:cNvPr>
          <p:cNvSpPr/>
          <p:nvPr/>
        </p:nvSpPr>
        <p:spPr>
          <a:xfrm>
            <a:off x="565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203640" y="907920"/>
            <a:ext cx="4465440" cy="4176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2552760"/>
            <a:ext cx="2303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方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兴化北郊乌巾荡公园北首。明崇祯年间，报恩寺朗然大和尚云游兴化，发现这方净土与与中国第一部汉译佛教典籍《四十二章经》中“视兴化，如四时木”这一典故暗合，遂在水天一色的兴化城东大徐垛结庵梵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03640" y="3267000"/>
            <a:ext cx="4463640" cy="1817640"/>
            <a:chOff x="3203640" y="3267000"/>
            <a:chExt cx="4463640" cy="181764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203640" y="3267000"/>
              <a:ext cx="446364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4"/>
            <a:stretch/>
          </p:blipFill>
          <p:spPr>
            <a:xfrm>
              <a:off x="4765680" y="3914640"/>
              <a:ext cx="1337040" cy="2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3979800" y="5299200"/>
            <a:ext cx="552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看不尽水村山郭、楼台烟雨，遍地姹紫嫣红，佛只说四时华木证兴化；</a:t>
            </a:r>
            <a:br>
              <a:rPr sz="1900"/>
            </a:br>
            <a:r>
              <a:rPr b="1" lang="zh-CN" sz="19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忆无数梵宇琳宫、殿阁钟鼓，到处大德人龙，书却载千年法水源上方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25480" y="98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天佛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349236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6" action="ppaction://hlinksldjump"/>
          </p:cNvPr>
          <p:cNvSpPr/>
          <p:nvPr/>
        </p:nvSpPr>
        <p:spPr>
          <a:xfrm>
            <a:off x="392436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435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4789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522144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565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6769080" cy="391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4360" y="514872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玄武灵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玄武灵台”（现名拱极台）景区，楼台亭阁依城傍水，参天大树遮天盖地，景色幽雅秀丽。位于兴化城北海子池畔，始建于宋这是兴化城内最具规模的一处人文景观，拥有七百多年历史。上有海光楼、绿波亭等建筑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59280" y="2708280"/>
            <a:ext cx="2952720" cy="1944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17176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海光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59280" y="765000"/>
            <a:ext cx="2952720" cy="1943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04960" y="21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玄武灵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514836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5580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6012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8" action="ppaction://hlinksldjump"/>
          </p:cNvPr>
          <p:cNvSpPr/>
          <p:nvPr/>
        </p:nvSpPr>
        <p:spPr>
          <a:xfrm>
            <a:off x="644508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9" action="ppaction://hlinksldjump"/>
          </p:cNvPr>
          <p:cNvSpPr/>
          <p:nvPr/>
        </p:nvSpPr>
        <p:spPr>
          <a:xfrm>
            <a:off x="6877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0" action="ppaction://hlinksldjump"/>
          </p:cNvPr>
          <p:cNvSpPr/>
          <p:nvPr/>
        </p:nvSpPr>
        <p:spPr>
          <a:xfrm>
            <a:off x="730872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671640" cy="3143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3673440" cy="316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4624920"/>
            <a:ext cx="740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徐马荒”原生态风景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于西郊镇西部，距兴化城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钟车程，东始徐圩公路，西接高邮市川青镇，南起徐马公路，北至兴化市李中镇，总面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.6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方公里。区内有陆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亩、林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亩、荒滩水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亩、鱼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亩。宽广的水域、连片的森林、原始的生态、多样的生物种类以及丰富的地域宗教、历史文化内涵成为风景区得天独厚的开发资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时也是风景区进一步规划建设最宝贵的生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6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7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8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9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836640"/>
            <a:ext cx="136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古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346560" y="98100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3530520"/>
            <a:ext cx="2448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李园船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兴化城中武安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号。原为清代富商李小波私家花园，大门朝东，有门楼隐壁二门、南北耳房、前庭井、坐北朝南花厅。入李园园门便是船厅，开阔一间，进深七间，内外形似游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5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6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7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8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30120" y="2132640"/>
            <a:ext cx="76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少儿简体"/>
              </a:rPr>
              <a:t>第一乐章：我爱我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6624720" cy="36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826920" y="4581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南荡遗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距城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里，在兴化市林湖乡戴家舍境内，面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万平方米。据测定，南荡遗址年代约为公元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600—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的龙山时代至夏初的新石器文化晚期。古南荡遗址的发现，把兴化的人文溯源向前推进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6840720" cy="424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11280" y="5481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刘熙载故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于兴化府前街西首，清代文艺评论家刘熙载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8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曾生活居住过的地方。现有坐西朝东门楼，坐北朝南前堂后屋。家居式穿堂、天井、古桐书屋等建筑。正堂屋悬咸丰皇帝御书“性静情逸”匾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7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8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2783160"/>
            <a:ext cx="230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郑板桥故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兴化东城湾古板桥郑家巷。郑燮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9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6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字克柔，号板桥，清代书画家，“扬州八怪”之一。乾隆元年前曾居于此。故居坐北朝南，有门楼，上下屋，小书斋，小庭院天井，厨房等，屋内陈列有关郑板桥的文物资料、书画、塑像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76720" y="692280"/>
            <a:ext cx="4535280" cy="2952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76720" y="3579840"/>
            <a:ext cx="4537080" cy="26575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6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7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8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9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843280" y="1054080"/>
            <a:ext cx="4825800" cy="489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2768760"/>
            <a:ext cx="2232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施耐庵陵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兴化新垛镇施家桥东北一百五十米。以施耐庵墓为中心，陵园内陈列有施氏家世表、与施耐庵及其后裔有关的各类文物以及《水浒传》的各种版本资料。施耐庵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37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元末明初小说家。《水浒传》作者。卒于淮安，其孙述元遵遗愿葬于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5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6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7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8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843280" y="907920"/>
            <a:ext cx="5000400" cy="4969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2290680"/>
            <a:ext cx="244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四牌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兴化城中，原建于明，檐下悬有自宋至民国初兴化历代名人匾额四十七块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毁，存“东海贤人”、“极品封君”、“烈孝格天”、“两朝忠尽”等五块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重建，已毁匾额按原内容由当代全国著名书法家书写重悬于檐下，围墙上嵌有“重修四牌楼记”碑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536400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579600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6227640" y="595008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6" action="ppaction://hlinksldjump"/>
          </p:cNvPr>
          <p:cNvSpPr/>
          <p:nvPr/>
        </p:nvSpPr>
        <p:spPr>
          <a:xfrm>
            <a:off x="6661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7" action="ppaction://hlinksldjump"/>
          </p:cNvPr>
          <p:cNvSpPr/>
          <p:nvPr/>
        </p:nvSpPr>
        <p:spPr>
          <a:xfrm>
            <a:off x="709308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8" action="ppaction://hlinksldjump"/>
          </p:cNvPr>
          <p:cNvSpPr/>
          <p:nvPr/>
        </p:nvSpPr>
        <p:spPr>
          <a:xfrm>
            <a:off x="7524720" y="595008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4679640" cy="460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36388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施耐庵（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29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7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名彦端，字耐庵。元末明初文学家，《水浒传》作者。世居兴化。死后葬施家桥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112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名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392720" cy="5178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075280" y="186876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燮，字克柔，号板桥，江苏兴化人，生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9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卒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6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康熙秀才、雍正举人、乾隆进士。客居扬州，以卖画为生。为“扬州八怪”之一，其诗、书、画世称“三绝”，画擅兰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80000" y="4221000"/>
            <a:ext cx="14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名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32720" y="98100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明三相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95280" y="1484280"/>
            <a:ext cx="2808360" cy="4032360"/>
            <a:chOff x="395280" y="1484280"/>
            <a:chExt cx="2808360" cy="403236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95280" y="2347920"/>
              <a:ext cx="273672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395280" y="1484280"/>
              <a:ext cx="2808360" cy="8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3160800" y="728640"/>
            <a:ext cx="2735280" cy="3924360"/>
            <a:chOff x="3160800" y="728640"/>
            <a:chExt cx="2735280" cy="392436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3160800" y="1378080"/>
              <a:ext cx="2705040" cy="32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3160800" y="728640"/>
              <a:ext cx="2735280" cy="64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2592360" cy="3057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5219640" y="2276640"/>
            <a:ext cx="2592360" cy="927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940360" y="981000"/>
            <a:ext cx="576360" cy="1079640"/>
          </a:xfrm>
          <a:prstGeom prst="wedgeRectCallout">
            <a:avLst>
              <a:gd name="adj1" fmla="val -130717"/>
              <a:gd name="adj2" fmla="val 11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4941720"/>
            <a:ext cx="1008000" cy="648000"/>
          </a:xfrm>
          <a:prstGeom prst="wedgeRectCallout">
            <a:avLst>
              <a:gd name="adj1" fmla="val 122282"/>
              <a:gd name="adj2" fmla="val -865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 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5516640"/>
            <a:ext cx="1513080" cy="649080"/>
          </a:xfrm>
          <a:prstGeom prst="wedgeRectCallout">
            <a:avLst>
              <a:gd name="adj1" fmla="val -99949"/>
              <a:gd name="adj2" fmla="val -99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春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711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名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8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9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10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1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12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3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4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15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6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17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826920" y="9079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走近名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54808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李审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859-193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名详，字审   言。兴化人。明代状元宰相李春芳八世孙。著名文学家、学者，“扬州学派”后期代表人物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被江苏学政取为第一名秀才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受聘为东南大学国文系教授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与陈垣、鲁迅、胡适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同被聘为中央研究院特约著述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当于今之学部委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865760" y="765000"/>
            <a:ext cx="2898720" cy="388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48308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李审言一生自学成才，在骈文、方志、金石、目录、选学等方面均有显著成就，除纂修《江苏通志》等地方志外，留下的主要著作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种，被学人誉为“国学大师”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后人将其文稿辑为《李审言文集》两卷发行，胡乔木为该书题签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3816360" cy="4824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942880" y="270612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毕飞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80000" y="83664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化名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48580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父亲的生日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父亲的爱好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父亲在家中负责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等事务，父亲是个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人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母亲的生日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母亲的爱好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母亲在家中负责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等事务，母亲是个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的人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我的生日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我的爱好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我在家中负责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家人对我的期望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我认为对家中贡献最大的人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享受最多的人是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你的存在给父母的欢乐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多于，少于）给父母的负担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8557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家庭写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4176720" cy="4581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015240" y="317772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谷笑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105264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国象大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4272120" cy="4826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445400" y="30632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志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8160" y="83664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化名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4319640" cy="5185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696320" y="256140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谢厚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836640"/>
            <a:ext cx="131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军中将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752720" cy="5328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084720" y="83664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两院院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5960" y="26330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亚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4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6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8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9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0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11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12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4464000" cy="5400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826920" y="83664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创业楷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58120" y="294732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锦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3" action="ppaction://hlinksldjump"/>
          </p:cNvPr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4" action="ppaction://hlinksldjump"/>
          </p:cNvPr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5" action="ppaction://hlinksldjump"/>
          </p:cNvPr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6" action="ppaction://hlinksldjump"/>
          </p:cNvPr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7" action="ppaction://hlinksldjump"/>
          </p:cNvPr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8" action="ppaction://hlinksldjump"/>
          </p:cNvPr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9" action="ppaction://hlinksldjump"/>
          </p:cNvPr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0" action="ppaction://hlinksldjump"/>
          </p:cNvPr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11" action="ppaction://hlinksldjump"/>
          </p:cNvPr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4464000" cy="5348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796000" y="844560"/>
            <a:ext cx="131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育英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8680" y="285048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春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48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8000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6764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3280" y="602136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7528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602136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7236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0400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7440" y="601992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28680" y="71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真情告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382040"/>
            <a:ext cx="7213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，一个简单的字，一种神圣的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一个可以穿着老爸的大拖鞋随意走动的地方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被老妈扭着耳朵不肯起床的地方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打碎碗碟照样心安理得吃饭的地方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吃了蛋黄将蛋清留给别人的地方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我最想离开又离不开的地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为我撑出一方晴空的伞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夜晚归来时带给我感动的灯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装尽我所有欢笑和泪水的船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是我每天都在书写而用尽笔墨却永远写不完的书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，是我生命中无法割离的一部分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鸟有巢，人有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家给了我生命，给了我希望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方正卡通简体"/>
                <a:ea typeface="方正卡通简体"/>
              </a:rPr>
              <a:t>我爱我家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11120" y="76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深情祝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6551640" cy="42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789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26359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方正少儿简体"/>
              </a:rPr>
              <a:t>第二乐章：我爱我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276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班名解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62840" y="157644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七（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）班——天水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5084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自信、合作、务实、奋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3480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班级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557360"/>
            <a:ext cx="30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个中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个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三个学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4800" y="4149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班级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6002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学习为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6760" y="21049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纪律和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6760" y="263844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学会做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学会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学会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964160"/>
            <a:ext cx="403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来到了一个崭新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曾经素不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但命运把我们紧紧相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相聚在这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彼此渐渐加深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七（</a:t>
            </a: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1992960"/>
            <a:ext cx="338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新的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新的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同学们手挽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荣获一面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火红的循环红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那么耀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还有那一张张奖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高高地挂在墙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仿佛是一个个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古隶简体"/>
                <a:ea typeface="方正古隶简体"/>
              </a:rPr>
              <a:t>活力无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83664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少儿简体"/>
              </a:rPr>
              <a:t>才情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102240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我们七（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2:46:0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13:31Z</dcterms:modified>
  <cp:revision>22</cp:revision>
  <dc:subject>主题班会课件(分28大类): http://shop62905894.taobao.com</dc:subject>
  <dc:title>主题班会课件(分28大类): http://shop62905894.taobao.com</dc:title>
</cp:coreProperties>
</file>